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55CA6-625F-49F2-956F-23118859DB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D6DA9-1E65-4DED-8353-F8D78BEC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5AA41-EFD2-4DFE-BA86-16C93910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14F8A-85E7-436B-BAD1-819B01B35D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B3AC9-4E0B-4D72-A2E3-F7F3A769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A06EB-5A91-49D6-84A8-18F0372F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8E02F-3A57-4458-B3B4-5F8DBDE1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E8488-287D-4A68-974D-189103AA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FB4DC-48DD-4112-B350-0D05984D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64466-0D3E-4AC9-82B9-25D5398F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D50EE-E4AC-4640-B66D-41F336C4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839CD-11A8-4725-ABE5-8B4B6E8C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A80E-AC3B-4A60-8108-2F5CA54420F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节  吞咽训练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舌的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被动运动：用吸舌器或纱布包住患者舌部，向前后、左右、上下各个方向行牵拉运动，有助于降低舌肌张力，每次牵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~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直到能主动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主动运动：指导患者舌前伸、后缩、侧方顶颊部、用舌舔上下唇、舔左右嘴角、卷舌，有利于提高舌的灵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抗阻运动：用勺子或压舌板在患者舌上进行按压、滑动等刺激，同时指导患者用力将舌向不同方向低压舌板，进行抗阻训练，帮助患者提高舌肌力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坐位训练以预防直立性低血压，每日逐渐抬高床头直到能独立坐起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~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小时，为进食训练打下良好的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屏气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发声训练   患者坐在椅子上，双手支撑椅面，做推压运动和屏气。此时胸廓固定、声门紧闭；然后，突然松手，声门大开，呼气发声。此运动可以训练声门的闭锁功能、强化软腭的肌力，同时有助于去除残留在咽部侧隐窝的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吞咽反射刺激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咽部冷刺激用冷冻的大头棉签，轻轻刺激患者软腭、舌根及咽后壁，左右相同部位交替刺激，然后嘱患者做空吞咽动作。寒冷刺激可以提高软腭和咽部敏感度，强化吞咽反射，减少唾液腺的分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冰块刺激采用头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~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前屈仰卧体位，先用较小的冰块刺激口腔两侧黏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根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，然后咽下冰块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逐渐增加至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~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通过以上方法训练后患者若出现吞咽功能，即可开始进食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呼吸训练  采用腹式呼吸、缩唇呼吸训练，自己调节呼吸节奏，延长呼气时间，使呼吸平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咳嗽训练  通过强化训练有效咳嗽，提高呼吸系统的反应性，促进咽喉部闭锁的效果，达到排出分泌物、预防误吸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12720" y="1270080"/>
            <a:ext cx="8083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吞咽手法的应用根据病情，进食中选用合适的手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声门上吞咽法：在吞咽前或吞咽时关闭真声带处的呼吸道（吸气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闭气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超声门上吞咽法：在吞咽前或吞咽时用力后送舌和关闭呼吸道入口并用力咽下食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吞咽法：在咽部吞咽时增加舌根部后送的力量，清除会厌软骨的食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门德尔松手法：患者喉部可上抬时，指导患者做空吞咽动作，并使喉部保持在上抬的位置，此手法增强喉部上抬的幅度和时间，而延长环咽肌开放时间，改善吞咽的协调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进食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位：躯干直立，稍向前倾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患侧手放于桌上，颈部稍向前弯曲，使舌骨肌的张力增高，喉上抬，使食物容易进入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半坐位：躯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卧位，头部前屈，偏瘫侧肩部以枕垫起，喂食者位于患者健侧。此时进行训练，食物不易从口中漏出，利于食物向舌根运送，还可以减少鼻腔逆流及误咽的危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物的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容易吞咽的食物特点：密度均匀、黏性适当、不易松散、通过咽和食道时易变形且很少在黏膜上残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稠的食物比稀的安全，因为它能较满意地刺激触、压觉和唾液分泌，使吞咽变得容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兼顾食物的色、香、味及温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以偏凉食物为宜，冷刺激能有效强化吞咽反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具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勺底浅、容量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长柄匙适合舌的后送食物的困难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杯子上缘有一缺口的“斜口杯”，只需抬高杯子喝完杯内水，避免呛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物在口中位置食物放在健侧舌后部或健侧颊部，有利于食物的吞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一口量进食的一口量和控制速度的一口量。正常人约为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以少量试之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酌情增加，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ml……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结合声门上吞咽。此方法防止吞咽时食物误吸入气管，吞咽后咳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除去残留在咽喉部的食物残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8816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代偿性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吞咽：每次进食吞咽后，反复做几次空吞咽（至少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: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使食团全部咽下，再进食。可除去残留食物防止误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交替吞咽：每次进食吞咽后饮极少量的水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既有利于刺激诱发吞咽反射，又能达到除去咽部残留食物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侧方吞咽：让患者分别左、右侧转头，作侧方吞咽，可除去梨状隐窝部的残留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吞咽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代偿性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吞咽：指导患者将舌用力向后移动，帮助食物推进通过咽腔，以增大口腔吞咽压，减少食物残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点头样吞咽：颈部尽量前屈形状似点头，同时作空吞咽动作，可去除会厌谷残留食物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低头吞咽：颈部尽量前屈姿势吞咽，使会厌谷的空间扩大，并让会厌向后移位，避免食物溢漏入喉前庭，更有利于保护气道，收窄气管入口，咽后壁后移，使食物尽量离开气管入口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10FA-D6AA-45EE-8881-516F73ED39B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85520" y="2000160"/>
            <a:ext cx="774684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的定义、分类、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的评定方法、训练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训练的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838080" y="304920"/>
            <a:ext cx="8055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课程总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，男性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，哮喘多年，现合并慢阻肺，肺功能重度阻塞性通气功能障碍，急性发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。入院查体：喘息貌，桶状胸，双肺满布哮鸣音，心率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94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，心律不齐，闻及频发早搏，血压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55/85 mmH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双下肢不肿。入院后给予低流量吸氧，白细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反应蛋白等炎症指标不高，血气二氧化碳正常，左氧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0.6 q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可必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普米克雾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甲强龙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mg 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每天半支茶碱静滴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症状明显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试分析：该患者怎样进行评估？应采取哪些康复护理措施？怎样指导进行日常生活指导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FF70-AEA8-40AB-9EF0-D688ADA995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吞咽障碍的定义、训练目的及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归纳摄食训练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能够针对临床常见吞咽障碍采取不同的吞咽训练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36A8-E581-497B-B1D1-B7E5FE5D4C6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71640" y="2421000"/>
            <a:ext cx="302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一、概   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328C-F5D2-4D94-A94D-BE7D0D79B18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由于下颌、双唇、舌、软腭、咽喉、食管括约肌或食管的结构和（或）功能受损，不能安全有效地把食物正常送到胃内的一个过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7629480" y="33336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  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6538-14CF-4C51-A6B4-2CC2D373C83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44720" y="1917720"/>
            <a:ext cx="7480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增强用口进食的能力及安全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鼻饲机会，增强营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吸入性肺炎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增加进食乐趣，增强康复信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善摄食吞咽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63704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目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76720" y="333000"/>
            <a:ext cx="1677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6920" y="1341000"/>
            <a:ext cx="729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综合评估确定患者的吞咽障碍程度和吞咽障碍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个体化针对不同的患者，采取不同的吞咽训练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循序渐进根据患者的功能障碍情况进行训练和治疗，逐渐增加进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治疗和训练相结合在训练的基础上，通过合理的刺激，促进吞咽障碍的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E09A-4C6C-4EAD-8D4B-15BB11C4722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2268360" y="2060640"/>
            <a:ext cx="424836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二、训练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基础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摄食训练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62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局部肌肉运动控制训练   指导患者进行微笑、皱眉、鼓腮、张口、闭口、伸舌训练和双侧面部按摩，改善口、面、舌下颌的运动功能，促进主动收缩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36:16Z</dcterms:modified>
  <cp:revision>1</cp:revision>
  <dc:subject/>
  <dc:title>  第五章  康复护理技术</dc:title>
</cp:coreProperties>
</file>